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5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C3D-B855-4C8F-B088-7DAE100B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B99-EECA-43C5-854C-6243AA5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CCC96-BE54-4762-B287-3B5D42C2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6BB6A-7D56-4DA5-A49F-F8A860B5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6763D-6F19-4ECA-AB4B-34DC2ADE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4FF75-9E6D-4018-8A50-698C0C53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367C3-87F2-4ACD-9C50-155B7FBB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B828E-157A-4D38-AA20-D2B5D379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A00B7-85FA-449A-8094-9C1CC690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2DBC4-B3B7-4460-85C0-CE1F891E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34566-1C58-4EED-9E0C-FC08BAAC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B75F0-5988-4268-B396-285A2347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05A-99E0-4AFC-BCB1-AED33A7C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ABA17-26E0-4FFD-B15F-89ED14B0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6F7B2-51C3-4836-A28C-24D597BF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6A66E-18EB-45E8-A4F9-B4C8C2F0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E7513-BC81-4BB2-BC99-DE7B7C10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BEA26-A603-4158-94F4-AB3E0354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D41E9-F0B9-42D6-9878-3B62310F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3BABD-6D05-419A-A490-C7567C4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AD651-3731-4B3E-80C0-B8DD1783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B0BE4-5C37-4CE8-80CF-905A5013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09495-DE43-46E9-A142-5B2A786E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60A-86B5-43C6-8A1E-FDCC325C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F59B4-1DCA-4B48-B18A-3996640D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F525E-8F7E-46B1-942C-A06D024B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8F632-E85F-425F-883E-07FBA6B6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0ED8C-6718-4AE2-8EEF-E2084AB5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BE2C2-FBD4-47E7-ACB4-3765A2DC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1B004-FC4D-4C61-A3DB-2A28993A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BAB59-543E-4380-873D-E0CFDBF8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BE483-D3DB-4A01-895F-144F4E2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D0AAD-87A3-4E96-AFED-6FA678AF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031F2-47E1-4018-BC11-938FDE6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A790-1AB0-4754-8004-9D574D62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B7E26-1B18-459E-8361-233D44DD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77902-5780-4833-B2D2-3EAE88BD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7BDB3-70A1-4F6F-9C56-770D7CBF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D8F54-923D-481D-9C3A-4F92EC37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B7BB5-0DA8-463C-B61C-B84D647A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58FAA-D496-4098-91FC-66B69062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A62EF-F6CF-4FFE-A407-01954222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4664E-702C-4516-9E2F-C5E4AF2F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8E6DC-CFFC-42FE-BBAA-18D0486E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F0424-0051-4CB9-8329-21DBA779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6F5D-E287-4A12-9AAC-1C723278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FA9C9-E566-49F0-88E5-0F8BF2A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48969-4354-46A1-92F3-A6ABAD0E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AC5CC-C6EB-43CF-86E0-05D1BEBB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5232A-CAED-488E-AA55-13CC137B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9394C-7BBF-4774-A383-94591675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35837-7F4B-4E2E-850B-C90CF690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063E7-DAB5-47DC-840E-A4B9F9FC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4D87B-9AA5-4F5A-8A81-1C6D94C9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A17B0-29A8-4D22-94BC-5655152D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8FE13-5966-4EE6-BD6F-36339514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61B9-976E-497D-B807-788C73FE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44F7C-61AB-446C-8AE8-A7FDAB43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A7346-3CF6-44E5-AE8C-E03B292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644E8-C411-4A68-855B-350CD0BE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240A0-81F5-46A6-8656-889C663D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3A83F-2AD6-423E-A219-7F82E37C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4FF78-65CD-427F-A2A0-B1D5AEBB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F9100-496D-41E6-9EB6-A54EDE89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70C4-5577-4F3B-840F-61FD8C52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81C7-8C9C-414F-A705-D1E7D4C1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8F11-0F1B-4F22-B369-D4305EFA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7D3F-C177-4A84-8014-352F3414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FC4-323B-4AEB-8A09-4C2D2501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5B3E-8545-4DB6-A419-D810F5DF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5BAE-FB6D-4295-9BD9-D6B53ADF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2731-A58D-49D8-BD01-74241B8C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0992-E1AE-41B0-A2BD-B8F1210B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2FB0-4A4D-42B5-A385-44C9211F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2C95-9F1C-461F-88E2-C5E18AE9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A3BA3-5C1C-47B1-9464-36920B13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BA3E-A3D5-4250-A888-022499FA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C97E-C01D-4766-B034-5F4857D0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07C4-149A-422D-A7BB-40590623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CA7-90F0-4714-9C53-B0713CA6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C75C-0D24-4D34-8ACD-57DA9BBD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84C3C-65AA-4237-859D-777E7C6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E247A-5C39-406C-94CE-B6601215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A3AA-8339-4D83-9190-43FE2E93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CC8D-3B8B-4075-8B48-62FD9FD5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94F8-17D2-4C88-B3CA-59EDEA7E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5CA3-46B7-4162-B31B-6E7DA9D1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C3077-E704-43AE-B3A6-9C5388DB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6769-3A81-4F49-B50A-717860C8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5BAF-D9C4-404E-B325-A4589D22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F38-4209-4B57-8A68-66CD72C3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F8673-F48E-44D5-975F-C40239C5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E2D7C-2A75-4F01-A75B-75D6053C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421E5-CCA8-4CB8-AFBD-3504E8EA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A7AA-82D4-456B-9B64-D8CCA80C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38BC-3D47-412C-83C2-E4D5659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A670E-176D-4D6F-8AD0-B7E4946C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FC75-C8EF-422A-8469-1F23FD37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A166D-3431-4CC9-A6E9-3729C8F1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B6054-E63D-4985-A48A-498900F4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8BBB6-935E-499C-8866-8C6D507E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46B-6C9E-4CC9-AB87-875BE96A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39DE-FA3F-4555-AA8A-D4A54148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1AFB-A4D4-4B1C-82C5-8A38B850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5DE48-A60A-4714-A6DC-0D653E62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30395-F38D-482E-99CB-9D1E8A5A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D1F91-DAC4-4508-B521-0277AC6D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23A4-1408-4606-A921-A555C25D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2A96-E59F-4F59-B65C-492B53A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7991D-6FFA-4549-92C8-DB556000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AC549-83DE-4C42-82AC-EB4409E3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F312B-0079-41C3-A3F2-8C29657E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5AC-1B1F-49DC-AC2C-68DE21DF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5B004-264B-46E0-A127-62BC31BE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BF0CB-1519-4782-A002-210D8876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07EE2-3EE5-4D03-BD75-F40772C3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32A21-6F2A-4E62-B78B-60FA02A6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2C4E5-8446-495C-AADB-D09664B0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9E189-C506-4ACB-AC03-22219E2C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42CAB-E678-40EB-88A8-A70106A9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2DA95-EE72-4B5C-B5FF-7FCA34C2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1511B-1EB2-4FCC-BF5D-8D11F642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B60D0-F825-4CB6-9D32-D3CF4AE1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346-FF30-4B34-A471-9A4DDDFE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402D4-1143-465B-BA4E-9955A1AC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D6D9F-682B-4CB3-A0C8-5F77E9B0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8AE05-049D-4EE4-9D7D-09992BF8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00978-A48F-4A9E-BC37-B5ED24CB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97C74-0CC3-4986-A37B-F96F28DC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F2FD4-77A8-43EC-B6E1-29BC5904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6FC1B-4B45-4B5B-9D60-B349223B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4C7F2-38B7-406D-87C0-DF5B2CD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46B52-D71B-4674-8A3E-0E14BF07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527C7-AF79-4554-97A2-90F1BE5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372-FD5A-4AC6-AA84-18557428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C71EC-92B7-4501-A2CE-612D6404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5C599-3B1B-49D3-AB20-8DBB4CC5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56232-81B1-4074-B56B-7826EA00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BCA1C-30FE-4D2E-A0C3-270355CF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E0067-B2A6-480E-8745-6D846A40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19680-DC1A-46E3-B9C4-ADBA44C9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89930-756B-4C56-AF32-6B262217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02101-3D19-4C92-BC39-07D5B06C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B2F13-2DB3-4FA2-AFB8-29B736B3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2F3D-2DA4-4AC8-8800-DFD46E76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A4F-299C-4D6B-B6C8-1DB6788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A9265-D0C9-4C88-88ED-C60B44ED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3E82D-C508-4B97-9948-688B8874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7A35F-F765-4B27-9813-B02CAC85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0ADF7-B1AE-4087-B5C4-1952145C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CB2C5-6146-425C-9D97-3165FA70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00D9-F7F7-4268-8D7F-202155EA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4B9DC-C712-4D21-8E3E-1DA976EE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1418C-E943-4A7E-AEED-2524927A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ADD97-B6C3-4A2C-BCF5-0204CFA8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82F18-8F85-479B-B4F6-F4F691D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7BD9-BE0F-4096-A3AB-4795F5B70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F837-5936-45FD-9ADF-FE5C883DA9FF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9BB3-7DE4-4DBB-8BC4-DC09EA736C65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4DDA-F3DB-4CC4-AD88-D4F3059D66B3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1328-6338-429C-893C-6307687E58F0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CB9E-7938-4D65-B57A-28BC111BD69F}" type="slidenum">
              <a:rPr b="0" lang="fr-F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8F2F-858F-45D4-A260-13747A489EC3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8E01-3B86-4C81-9AC6-29F617897E94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2FC3-758C-4C81-9E62-64C6EC167F0D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8124-05F1-4810-82AF-360E1D817A4C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B017-D5ED-4DDF-99ED-457883C87B96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25DF-64CB-4D17-BE7E-6859288620E6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435A-F9A1-42BE-867E-F0C9E60761AA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7848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Virus et Infections  Associées aux Soi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r C. Z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aboratoire de Virologie IHU Méditerran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OHH CLIN Tim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eptembre 2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urces de contamination poss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932040" y="1981080"/>
            <a:ext cx="727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chéma des différentes sources d’infections nosocomiales vira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Espace réservé du contenu 3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4680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050"/>
          <p:cNvSpPr/>
          <p:nvPr/>
        </p:nvSpPr>
        <p:spPr>
          <a:xfrm>
            <a:off x="1523880" y="990720"/>
            <a:ext cx="62485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pectre path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gestif (GEA, hépat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sté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yens de prévention (vaccins) et de traitement (antivirau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istance des virus aux agents chim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urvie des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13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HA et Vir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rucide sur les virus enveloppés (herpes simplex virus, HIV, virus de la grippe, virus respiratoire syncytial, virus de l’hépatite B) et à un degré moindre sur les virus 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mélioration constante des produits et augmentation du nombre de produits virucides sur la majorité des virus pouvant être véhiculés par les 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rme virucidie : NFEN 14476 (adénovirus, poliovir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Image 1" descr=""/>
          <p:cNvPicPr/>
          <p:nvPr/>
        </p:nvPicPr>
        <p:blipFill>
          <a:blip r:embed="rId1"/>
          <a:stretch/>
        </p:blipFill>
        <p:spPr>
          <a:xfrm>
            <a:off x="-4645080" y="-1395360"/>
            <a:ext cx="1600200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Rôle du labora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21013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onnaissance des patients porteurs de virus à l’hô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er les patients atteints: tests rapides (P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sures d’iso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lification des dons d’org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firmation du caractère «  IAS » d’une épidém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de l’identité des souches isol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ise en charge virologique des patients infec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rge virale, détection des rés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1511280"/>
            <a:ext cx="9144000" cy="3416400"/>
          </a:xfrm>
          <a:prstGeom prst="rect">
            <a:avLst/>
          </a:prstGeom>
          <a:solidFill>
            <a:srgbClr val="5aa2ae"/>
          </a:solidFill>
          <a:ln w="12600">
            <a:solidFill>
              <a:srgbClr val="7268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1494000" y="2025720"/>
            <a:ext cx="6156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Object 4"/>
          <p:cNvGraphicFramePr/>
          <p:nvPr/>
        </p:nvGraphicFramePr>
        <p:xfrm>
          <a:off x="2577960" y="3463920"/>
          <a:ext cx="102096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7960" y="3463920"/>
                    <a:ext cx="102096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10"/>
          <p:cNvSpPr/>
          <p:nvPr/>
        </p:nvSpPr>
        <p:spPr>
          <a:xfrm>
            <a:off x="4656240" y="2214720"/>
            <a:ext cx="4392360" cy="554400"/>
          </a:xfrm>
          <a:prstGeom prst="rect">
            <a:avLst/>
          </a:prstGeom>
          <a:solidFill>
            <a:srgbClr val="5aa2ae"/>
          </a:solidFill>
          <a:ln w="19080">
            <a:solidFill>
              <a:srgbClr val="504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040"/>
                </a:solidFill>
                <a:latin typeface="Comic Sans MS"/>
              </a:rPr>
              <a:t>Détection du génome ADN ou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040"/>
                </a:solidFill>
                <a:latin typeface="Comic Sans MS"/>
              </a:rPr>
              <a:t>Biologie molécul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12600" y="1844640"/>
            <a:ext cx="2322720" cy="505440"/>
          </a:xfrm>
          <a:prstGeom prst="rect">
            <a:avLst/>
          </a:prstGeom>
          <a:solidFill>
            <a:srgbClr val="5aa2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700" spc="-1" strike="noStrike" u="sng">
                <a:solidFill>
                  <a:srgbClr val="404040"/>
                </a:solidFill>
                <a:uFillTx/>
                <a:latin typeface="Calibri Light"/>
              </a:rPr>
              <a:t>DIR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-17640" y="4932360"/>
            <a:ext cx="9161640" cy="10616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700" spc="-1" strike="noStrike" u="sng">
                <a:solidFill>
                  <a:srgbClr val="1b1e3e"/>
                </a:solidFill>
                <a:uFillTx/>
                <a:latin typeface="Calibri Light"/>
              </a:rPr>
              <a:t>INDIR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b1e3e"/>
                </a:solidFill>
                <a:latin typeface="Calibri Light"/>
              </a:rPr>
              <a:t> </a:t>
            </a:r>
            <a:r>
              <a:rPr b="0" lang="fr-FR" sz="2400" spc="-1" strike="noStrike">
                <a:solidFill>
                  <a:srgbClr val="1b1e3e"/>
                </a:solidFill>
                <a:latin typeface="Calibri Light"/>
              </a:rPr>
              <a:t>Détection des anticorps (Ac) = SER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6"/>
          <p:cNvSpPr/>
          <p:nvPr/>
        </p:nvSpPr>
        <p:spPr>
          <a:xfrm flipH="1" flipV="1">
            <a:off x="1709280" y="3935160"/>
            <a:ext cx="838440" cy="4680"/>
          </a:xfrm>
          <a:prstGeom prst="line">
            <a:avLst/>
          </a:prstGeom>
          <a:ln w="1908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7"/>
          <p:cNvSpPr/>
          <p:nvPr/>
        </p:nvSpPr>
        <p:spPr>
          <a:xfrm flipV="1">
            <a:off x="3422520" y="3244320"/>
            <a:ext cx="15840" cy="397080"/>
          </a:xfrm>
          <a:prstGeom prst="line">
            <a:avLst/>
          </a:prstGeom>
          <a:ln w="1908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8"/>
          <p:cNvSpPr/>
          <p:nvPr/>
        </p:nvSpPr>
        <p:spPr>
          <a:xfrm flipV="1">
            <a:off x="3060720" y="3987720"/>
            <a:ext cx="1455840" cy="6480"/>
          </a:xfrm>
          <a:prstGeom prst="line">
            <a:avLst/>
          </a:prstGeom>
          <a:ln w="1908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Group 24"/>
          <p:cNvGrpSpPr/>
          <p:nvPr/>
        </p:nvGrpSpPr>
        <p:grpSpPr>
          <a:xfrm>
            <a:off x="4656240" y="2744640"/>
            <a:ext cx="4391640" cy="2152440"/>
            <a:chOff x="4656240" y="2744640"/>
            <a:chExt cx="4391640" cy="2152440"/>
          </a:xfrm>
        </p:grpSpPr>
        <p:sp>
          <p:nvSpPr>
            <p:cNvPr id="571" name="Line 25"/>
            <p:cNvSpPr/>
            <p:nvPr/>
          </p:nvSpPr>
          <p:spPr>
            <a:xfrm>
              <a:off x="4656240" y="2744640"/>
              <a:ext cx="0" cy="2152440"/>
            </a:xfrm>
            <a:prstGeom prst="line">
              <a:avLst/>
            </a:prstGeom>
            <a:ln w="19080">
              <a:solidFill>
                <a:srgbClr val="504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26"/>
            <p:cNvSpPr/>
            <p:nvPr/>
          </p:nvSpPr>
          <p:spPr>
            <a:xfrm>
              <a:off x="4656240" y="4897080"/>
              <a:ext cx="4391640" cy="0"/>
            </a:xfrm>
            <a:prstGeom prst="line">
              <a:avLst/>
            </a:prstGeom>
            <a:ln w="19080">
              <a:solidFill>
                <a:srgbClr val="504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27"/>
            <p:cNvSpPr/>
            <p:nvPr/>
          </p:nvSpPr>
          <p:spPr>
            <a:xfrm>
              <a:off x="9047880" y="2744640"/>
              <a:ext cx="0" cy="2152440"/>
            </a:xfrm>
            <a:prstGeom prst="line">
              <a:avLst/>
            </a:prstGeom>
            <a:ln w="19080">
              <a:solidFill>
                <a:srgbClr val="504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4" name="Groupe 3" descr=""/>
          <p:cNvPicPr/>
          <p:nvPr/>
        </p:nvPicPr>
        <p:blipFill>
          <a:blip r:embed="rId3"/>
          <a:stretch/>
        </p:blipFill>
        <p:spPr>
          <a:xfrm>
            <a:off x="85680" y="2835360"/>
            <a:ext cx="1590840" cy="1815840"/>
          </a:xfrm>
          <a:prstGeom prst="rect">
            <a:avLst/>
          </a:prstGeom>
          <a:ln w="0">
            <a:noFill/>
          </a:ln>
        </p:spPr>
      </p:pic>
      <p:pic>
        <p:nvPicPr>
          <p:cNvPr id="575" name="Groupe 8" descr=""/>
          <p:cNvPicPr/>
          <p:nvPr/>
        </p:nvPicPr>
        <p:blipFill>
          <a:blip r:embed="rId4"/>
          <a:stretch/>
        </p:blipFill>
        <p:spPr>
          <a:xfrm>
            <a:off x="2755800" y="1609560"/>
            <a:ext cx="1487520" cy="1640160"/>
          </a:xfrm>
          <a:prstGeom prst="rect">
            <a:avLst/>
          </a:prstGeom>
          <a:ln w="0">
            <a:noFill/>
          </a:ln>
        </p:spPr>
      </p:pic>
      <p:pic>
        <p:nvPicPr>
          <p:cNvPr id="576" name="Image 6" descr=""/>
          <p:cNvPicPr/>
          <p:nvPr/>
        </p:nvPicPr>
        <p:blipFill>
          <a:blip r:embed="rId5"/>
          <a:srcRect l="51073" t="24248" r="22006" b="46352"/>
          <a:stretch/>
        </p:blipFill>
        <p:spPr>
          <a:xfrm>
            <a:off x="6696000" y="3436920"/>
            <a:ext cx="2298600" cy="1413000"/>
          </a:xfrm>
          <a:prstGeom prst="rect">
            <a:avLst/>
          </a:prstGeom>
          <a:ln w="0">
            <a:noFill/>
          </a:ln>
        </p:spPr>
      </p:pic>
      <p:pic>
        <p:nvPicPr>
          <p:cNvPr id="577" name="Image 7" descr=""/>
          <p:cNvPicPr/>
          <p:nvPr/>
        </p:nvPicPr>
        <p:blipFill>
          <a:blip r:embed="rId6"/>
          <a:srcRect l="27657" t="26922" r="51906" b="34299"/>
          <a:stretch/>
        </p:blipFill>
        <p:spPr>
          <a:xfrm>
            <a:off x="4767120" y="2887560"/>
            <a:ext cx="1838520" cy="19623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2050"/>
          <p:cNvSpPr/>
          <p:nvPr/>
        </p:nvSpPr>
        <p:spPr>
          <a:xfrm>
            <a:off x="0" y="857160"/>
            <a:ext cx="66088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417b85"/>
                </a:solidFill>
                <a:latin typeface="Calibri Light"/>
              </a:rPr>
              <a:t>Diagnostic d’un vir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Connecteur droit 44"/>
          <p:cNvSpPr/>
          <p:nvPr/>
        </p:nvSpPr>
        <p:spPr>
          <a:xfrm>
            <a:off x="0" y="1393920"/>
            <a:ext cx="6808680" cy="0"/>
          </a:xfrm>
          <a:prstGeom prst="line">
            <a:avLst/>
          </a:prstGeom>
          <a:ln w="63360">
            <a:solidFill>
              <a:srgbClr val="417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71600" y="534960"/>
            <a:ext cx="819936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Prévention des IAS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Moyens de prévention non spécif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écautions standard (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hygiène des mains 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Moyens de prévention spécifique (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olement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solement sep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lication aux malades, soignants, fam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tification dans le dos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Particularités des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rasites intra-cellulaires str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etite taille: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ulture uniquement sur cell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iagnostic difficile: biologie molécula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cc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épatite B (loi du 18/01/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ip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AV, VZV, 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rs-Co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mioprophylax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trétroviraux dans les A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tiherpétiques chez l’immunodépim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tigrippaux en cas d’épidé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munoglobu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g anti HBS chez le non vacci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g anti VZ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Principales infections nosocomiales vi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984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Gastro-entér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+++ avant 3 ans, collectiv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otaV, caliciV, astroV, aden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nsmission féco-orale par contact indirect (manuportage++, objets ou surfaces contamin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Viroses respirato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pédiatrie et en gériat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RS, InfluenzaV, ParainfluenzaV, adénoV, Sars-CoV-2, RhinoV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nsmission aérienne et manuport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Hépatites vi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BV et HCV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ition au sang ou autre fluide bi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lytransfusés, dialysés, transplantés, hémophiles, soig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volution vers cirrhose et KC fo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nfections par les rétr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nfections cutanéomuque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ricelle, herpes, rougeole, enteroV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Kératoconjonctivites (aden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En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te hétérogénéité des IN vi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isque viral très sous-estim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Âges extrêmes de la vie /Répercussions sur le personnel soig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écessité de développer des techniques de diagnostic rapide pour identifier les por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endre en compte les virus dans les programmes de pré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cautions standard+++, vaccinations et précautions complémentaires d’hygiène si beso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482760" y="290520"/>
            <a:ext cx="81784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38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Probléma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623880" y="1052640"/>
            <a:ext cx="7772400" cy="26524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2"/>
          <a:stretch/>
        </p:blipFill>
        <p:spPr>
          <a:xfrm>
            <a:off x="638280" y="3672000"/>
            <a:ext cx="7772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Particularités des IAS vi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val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%? Sous-estimée (avant Sars-CoV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 des enquêtes nationales de prévalen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 803 micro-organismes/31 virus : 0,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ariabilité de période d’incub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4 heures à plusieurs m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AS révélées après l’hospit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Image 1" descr=""/>
          <p:cNvPicPr/>
          <p:nvPr/>
        </p:nvPicPr>
        <p:blipFill>
          <a:blip r:embed="rId1"/>
          <a:srcRect l="7647" t="0" r="-7645" b="0"/>
          <a:stretch/>
        </p:blipFill>
        <p:spPr>
          <a:xfrm>
            <a:off x="-3997440" y="-1395360"/>
            <a:ext cx="1600200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900000" y="955800"/>
            <a:ext cx="61722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pulations 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Âges extrê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mmunodéprimés, polytransfusés, hémodialys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ig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tagios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s de colonisation vi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ecteurs de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vis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personnel soig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activation d’une infection chez l’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ervoir: h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tteint d’une infection aigue et excrétant du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rteur d’une infection inap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tteint d’une infection chronique avec ou sans signes cliniques (hépatite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Voies de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5" descr=""/>
          <p:cNvPicPr/>
          <p:nvPr/>
        </p:nvPicPr>
        <p:blipFill>
          <a:blip r:embed="rId1"/>
          <a:stretch/>
        </p:blipFill>
        <p:spPr>
          <a:xfrm>
            <a:off x="1274760" y="1981080"/>
            <a:ext cx="659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17:55Z</dcterms:created>
  <dc:creator>dr02225</dc:creator>
  <dc:description/>
  <dc:language>en-US</dc:language>
  <cp:lastModifiedBy>monna.daoudi</cp:lastModifiedBy>
  <dcterms:modified xsi:type="dcterms:W3CDTF">2024-09-18T13:17:25Z</dcterms:modified>
  <cp:revision>117</cp:revision>
  <dc:subject/>
  <dc:title>Virus et infections nosocomiales</dc:title>
</cp:coreProperties>
</file>